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WHOOSH.WAV" ContentType="audio/x-wav"/>
  <Override PartName="/ppt/media/image23.jpeg" ContentType="image/jpe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4EF9-86C9-47D0-9CFC-19DE7C6C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45E-79A3-4303-A714-6E4B831C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4626-5517-4747-AC58-35A52027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454-6F01-4B1D-A3FC-6D2378CA5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260A-5317-4ACA-9A1F-208D04EDC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D6ADD-2186-450A-9FC9-5A4554E3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3ED1-506B-436E-94E1-AA5C2633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80E-C7C6-4C6E-B840-5DFF530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63D0-74E5-4FCF-9DEA-489EE3DB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7654-85F9-450A-BD17-632937AE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24C8-AE2C-49C2-8C44-10075066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9462-5156-4DB0-9222-578B588A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E7A7-4C1C-4890-85E5-52467DE8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C6EC-BEB4-45A8-A0B2-276EC9C7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DF00-CE8E-4735-8E2B-A6F7C76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9F25-1B61-4505-8A04-BAB10003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640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45880" y="4076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6822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640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45880" y="4733280"/>
            <a:ext cx="188712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4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D3BB-EBB2-43FE-835D-1FA765F3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9F68-DFB0-42E1-9F26-34CD30C5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916-2BAF-4C1A-A25C-FCED40A1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0FC-D24D-4BB6-B8E1-36A97BB6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99840" y="1523520"/>
            <a:ext cx="6095880" cy="87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571E-D3E8-4FA7-8E36-788FF6A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C86-B326-4D10-BEF3-BB1BCA29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4733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0C9-AA41-49AD-AFCA-8B86BA1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8228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4076280"/>
            <a:ext cx="286020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82280" y="4733280"/>
            <a:ext cx="5861160" cy="59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E8F-84B3-407D-B0E3-F1C62609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6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2FEF-632C-4002-87BE-D33CEACA7918}" type="slidenum">
              <a:rPr b="0" lang="en-US" sz="1400" spc="-1" strike="noStrike">
                <a:solidFill>
                  <a:srgbClr val="806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6C7B-65CE-471A-8A12-A7D0A1E25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ransportation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4114800" cy="4800600"/>
          </a:xfrm>
          <a:prstGeom prst="rect">
            <a:avLst/>
          </a:prstGeom>
          <a:noFill/>
          <a:ln w="381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3. Guidanc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 information concerning the control of the vehicle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systems can be simple or quite complex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ps, GPS, traffic lights, keels, compu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1295280"/>
            <a:ext cx="4267080" cy="4480920"/>
          </a:xfrm>
          <a:prstGeom prst="rect">
            <a:avLst/>
          </a:pr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0099"/>
                </a:solidFill>
                <a:uFillTx/>
                <a:latin typeface="Times New Roman"/>
              </a:rPr>
              <a:t>4. Contro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speed and direction of a vehicle’s pa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imes New Roman"/>
              </a:rPr>
              <a:t>Steering &amp; brakes, rudders &amp; flaps, propellant (rocke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05160" y="1219320"/>
            <a:ext cx="3733560" cy="4876560"/>
          </a:xfrm>
          <a:prstGeom prst="rect">
            <a:avLst/>
          </a:prstGeom>
          <a:noFill/>
          <a:ln w="57240">
            <a:solidFill>
              <a:srgbClr val="99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Suppor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o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maint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hicl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Servic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keeps everything wor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age, gas stations, mechanics, control tower, marinas, NA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1219320"/>
            <a:ext cx="3809880" cy="4908960"/>
          </a:xfrm>
          <a:prstGeom prst="rect">
            <a:avLst/>
          </a:prstGeom>
          <a:noFill/>
          <a:ln cap="rnd" w="57240">
            <a:solidFill>
              <a:srgbClr val="cc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6633"/>
                </a:solidFill>
                <a:uFillTx/>
                <a:latin typeface="Times New Roman"/>
              </a:rPr>
              <a:t>Structural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the basic framework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vehic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accommodate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vehicle’s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cargo and form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k.a.:</a:t>
            </a:r>
            <a:r>
              <a:rPr b="1" lang="en-US" sz="24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chassis</a:t>
            </a: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dy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hul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6633"/>
                </a:solidFill>
                <a:latin typeface="Times New Roman"/>
              </a:rPr>
              <a:t>fuse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9966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3733920"/>
            <a:ext cx="56390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ransportation sub-systems are present in this pictur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4120" y="2362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erm would you use to describe this portion of the bo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7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63080" cy="9982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-42696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 is </a:t>
            </a:r>
            <a:r>
              <a:rPr b="1" i="1" lang="en-US" sz="4400" spc="-1" strike="noStrike" u="sng">
                <a:solidFill>
                  <a:srgbClr val="33cc33"/>
                </a:solidFill>
                <a:uFillTx/>
                <a:latin typeface="Arial"/>
              </a:rPr>
              <a:t>Tra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nsp</a:t>
            </a:r>
            <a:r>
              <a:rPr b="1" i="1" lang="en-US" sz="4400" spc="-1" strike="noStrike" u="sng">
                <a:solidFill>
                  <a:srgbClr val="0033cc"/>
                </a:solidFill>
                <a:uFillTx/>
                <a:latin typeface="Arial"/>
              </a:rPr>
              <a:t>orta</a:t>
            </a:r>
            <a:r>
              <a:rPr b="1" i="1" lang="en-US" sz="4400" spc="-1" strike="noStrike" u="sng">
                <a:solidFill>
                  <a:srgbClr val="800080"/>
                </a:solidFill>
                <a:uFillTx/>
                <a:latin typeface="Arial"/>
              </a:rPr>
              <a:t>tion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80"/>
                </a:solidFill>
                <a:latin typeface="Arial"/>
              </a:rPr>
              <a:t>The proces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by which people or goods are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moved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 delivered from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ne place to anoth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200400"/>
            <a:ext cx="4038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cc33"/>
                </a:solidFill>
                <a:uFillTx/>
                <a:latin typeface="Times New Roman"/>
              </a:rPr>
              <a:t>Four basic typ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cc33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cc33"/>
                </a:solidFill>
                <a:latin typeface="Times New Roman"/>
              </a:rPr>
              <a:t>L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i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imes New Roman"/>
              </a:rPr>
              <a:t>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80008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Sp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33"/>
                </a:solidFill>
                <a:latin typeface="Arial"/>
              </a:rPr>
              <a:t>Lan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that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move good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>
                <a:solidFill>
                  <a:srgbClr val="33cc33"/>
                </a:solidFill>
                <a:latin typeface="Arial"/>
              </a:rPr>
              <a:t>peop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from one place to another </a:t>
            </a:r>
            <a:r>
              <a:rPr b="1" lang="en-US" sz="3600" spc="-1" strike="noStrike" u="sng">
                <a:solidFill>
                  <a:srgbClr val="33cc33"/>
                </a:solidFill>
                <a:uFillTx/>
                <a:latin typeface="Arial"/>
              </a:rPr>
              <a:t>on EAR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010280" y="2971800"/>
            <a:ext cx="1830600" cy="1149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 flipH="1">
            <a:off x="533160" y="4267080"/>
            <a:ext cx="2190600" cy="1960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038480" y="43434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 flipH="1">
            <a:off x="6924600" y="4389480"/>
            <a:ext cx="1935360" cy="2011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i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use of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irplan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/o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licopter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lif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engers and/or cargo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into the ai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 order to move from place to place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10280" y="4876920"/>
            <a:ext cx="1809720" cy="1193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914400" y="5029200"/>
            <a:ext cx="2743200" cy="1015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flipH="1">
            <a:off x="0" y="0"/>
            <a:ext cx="2286000" cy="175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696080" y="228600"/>
            <a:ext cx="1121040" cy="1482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cc"/>
                </a:solidFill>
                <a:latin typeface="Arial"/>
              </a:rPr>
              <a:t>Water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us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wate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support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vessel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transport of people or goods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2979720" cy="1679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 rot="227400">
            <a:off x="304920" y="4343040"/>
            <a:ext cx="221904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895480" y="5533920"/>
            <a:ext cx="2230560" cy="1324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7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Space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that move people and goods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utsid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e earth’s atmosphere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 flipH="1">
            <a:off x="3580920" y="4800600"/>
            <a:ext cx="175284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162920" y="2666880"/>
            <a:ext cx="1660320" cy="2600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 Transportation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ubsystem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486400" y="2209320"/>
            <a:ext cx="327672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ul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pen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uida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362320"/>
            <a:ext cx="3810240" cy="283716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9900"/>
                </a:solidFill>
                <a:latin typeface="Arial"/>
              </a:rPr>
              <a:t>Interrelated part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hat work together to make vehicles 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42840" y="1143000"/>
            <a:ext cx="3352680" cy="12952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191120" y="2590920"/>
            <a:ext cx="761760" cy="1371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3962520"/>
            <a:ext cx="838080" cy="8380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191120" y="3428640"/>
            <a:ext cx="83808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67080" y="4038480"/>
            <a:ext cx="76212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838080" y="1143000"/>
          <a:ext cx="7696440" cy="5334120"/>
        </p:xfrm>
        <a:graphic>
          <a:graphicData uri="http://schemas.openxmlformats.org/drawingml/2006/table">
            <a:tbl>
              <a:tblPr/>
              <a:tblGrid>
                <a:gridCol w="2590920"/>
                <a:gridCol w="510552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syst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 parts of vehic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ul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ngine &amp; Trans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uspe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Springs, Wing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Contr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teering, Brake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Guid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aps, GPS, Signs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Structu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6633"/>
                          </a:solidFill>
                          <a:latin typeface="Arial"/>
                        </a:rPr>
                        <a:t>Chassis, Body, Fuse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Garage, Gas Station,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 Transportation Subsyste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380988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8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1.Propuls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s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ush forwar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drive an object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in words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forwards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ll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o dr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orce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propel from a starting poin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machine/eng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eates the push an object forwar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76920" y="1066680"/>
            <a:ext cx="3962160" cy="5640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2.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0033cc"/>
                </a:solidFill>
                <a:uFillTx/>
                <a:latin typeface="Times New Roman"/>
              </a:rPr>
              <a:t>Suspension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suppor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vehicles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kes ride more comforta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prings, shock absorbers wings, water, &amp; f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NECTS a vehicle to its wheel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5:49Z</dcterms:created>
  <dc:creator>Jerianne Taylor</dc:creator>
  <dc:description/>
  <dc:language>en-US</dc:language>
  <cp:lastModifiedBy>Barnstable Middle School</cp:lastModifiedBy>
  <dcterms:modified xsi:type="dcterms:W3CDTF">2012-05-21T12:05:18Z</dcterms:modified>
  <cp:revision>29</cp:revision>
  <dc:subject/>
  <dc:title>Transportation Systems</dc:title>
</cp:coreProperties>
</file>